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B98F-D398-4E18-B475-16D948D934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802D-6474-4190-AD80-A1D893D1A8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B32-8B23-4130-94B1-3AD02C52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9D7-88AB-4591-9361-BA4BA09D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45C-5ABB-490C-9CE7-B2D0C8E1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3BAD-F494-4CE9-B54C-C561CEE4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F8BF-936E-4FEE-ACB2-7C6F91A2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7E9-DE1B-44DB-A24B-629E0472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F32-E925-4D22-8DE5-F358EFB5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5E1F-874C-4EF5-9907-08E6403B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50DF-01D9-4EB3-A668-71E05FD7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09C5-A363-49B4-AE3E-8D07336B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7017-EDED-4F77-B997-A298B4FA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D24-52E9-45FD-8FD8-EA00CC65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50000">
              <a:srgbClr val="ffff99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D436-724B-4A72-B200-B2D4050153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400" spc="-1" strike="noStrike">
                <a:solidFill>
                  <a:srgbClr val="000000"/>
                </a:solidFill>
                <a:latin typeface="Arial"/>
              </a:rPr>
              <a:t>Visual Basic para Ap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320" y="342900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Concept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Elaborado p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Prof.: Eugenia Solano Sol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L.E.Bilingüe José Figueres Fer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Cart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357120" y="571680"/>
            <a:ext cx="3455640" cy="3312720"/>
            <a:chOff x="357120" y="571680"/>
            <a:chExt cx="3455640" cy="3312720"/>
          </a:xfrm>
        </p:grpSpPr>
        <p:pic>
          <p:nvPicPr>
            <p:cNvPr id="88" name="Picture 3" descr=""/>
            <p:cNvPicPr/>
            <p:nvPr/>
          </p:nvPicPr>
          <p:blipFill>
            <a:blip r:embed="rId1"/>
            <a:stretch/>
          </p:blipFill>
          <p:spPr>
            <a:xfrm>
              <a:off x="357120" y="571680"/>
              <a:ext cx="3455640" cy="33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4"/>
            <p:cNvSpPr/>
            <p:nvPr/>
          </p:nvSpPr>
          <p:spPr>
            <a:xfrm>
              <a:off x="526680" y="15606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5"/>
            <p:cNvSpPr/>
            <p:nvPr/>
          </p:nvSpPr>
          <p:spPr>
            <a:xfrm>
              <a:off x="1120320" y="12524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6"/>
            <p:cNvSpPr/>
            <p:nvPr/>
          </p:nvSpPr>
          <p:spPr>
            <a:xfrm>
              <a:off x="1575720" y="12614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005560" y="12614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8"/>
            <p:cNvSpPr/>
            <p:nvPr/>
          </p:nvSpPr>
          <p:spPr>
            <a:xfrm>
              <a:off x="2434680" y="12524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2886480" y="12704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0"/>
            <p:cNvSpPr/>
            <p:nvPr/>
          </p:nvSpPr>
          <p:spPr>
            <a:xfrm>
              <a:off x="492120" y="200736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928440" y="200736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2"/>
            <p:cNvSpPr/>
            <p:nvPr/>
          </p:nvSpPr>
          <p:spPr>
            <a:xfrm>
              <a:off x="1343880" y="202536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1906560" y="2316240"/>
              <a:ext cx="54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4"/>
            <p:cNvSpPr/>
            <p:nvPr/>
          </p:nvSpPr>
          <p:spPr>
            <a:xfrm>
              <a:off x="2341080" y="2316240"/>
              <a:ext cx="54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770560" y="2294280"/>
              <a:ext cx="54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6"/>
            <p:cNvSpPr/>
            <p:nvPr/>
          </p:nvSpPr>
          <p:spPr>
            <a:xfrm>
              <a:off x="566280" y="2791440"/>
              <a:ext cx="54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7"/>
            <p:cNvSpPr/>
            <p:nvPr/>
          </p:nvSpPr>
          <p:spPr>
            <a:xfrm>
              <a:off x="985320" y="2802240"/>
              <a:ext cx="54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8"/>
            <p:cNvSpPr/>
            <p:nvPr/>
          </p:nvSpPr>
          <p:spPr>
            <a:xfrm>
              <a:off x="1456560" y="2796840"/>
              <a:ext cx="54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9"/>
          <p:cNvSpPr/>
          <p:nvPr/>
        </p:nvSpPr>
        <p:spPr>
          <a:xfrm>
            <a:off x="4214880" y="642960"/>
            <a:ext cx="3429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Seleccionar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Etiqu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Cuadro de 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Cuadro comb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Cuadro de 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Casilla de ver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Botón de o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Botón de alter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M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Botón de coma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Barra de tabu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Página mú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Barra de desplaz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Botón de nú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Insertar Formula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67"/>
          <p:cNvGrpSpPr/>
          <p:nvPr/>
        </p:nvGrpSpPr>
        <p:grpSpPr>
          <a:xfrm>
            <a:off x="1042920" y="4149720"/>
            <a:ext cx="1441080" cy="1098720"/>
            <a:chOff x="1042920" y="4149720"/>
            <a:chExt cx="1441080" cy="1098720"/>
          </a:xfrm>
        </p:grpSpPr>
        <p:pic>
          <p:nvPicPr>
            <p:cNvPr id="106" name="Picture 20" descr=""/>
            <p:cNvPicPr/>
            <p:nvPr/>
          </p:nvPicPr>
          <p:blipFill>
            <a:blip r:embed="rId2"/>
            <a:stretch/>
          </p:blipFill>
          <p:spPr>
            <a:xfrm>
              <a:off x="1042920" y="4149720"/>
              <a:ext cx="1441080" cy="8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21"/>
            <p:cNvSpPr/>
            <p:nvPr/>
          </p:nvSpPr>
          <p:spPr>
            <a:xfrm>
              <a:off x="1332720" y="4880160"/>
              <a:ext cx="101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22"/>
          <p:cNvSpPr/>
          <p:nvPr/>
        </p:nvSpPr>
        <p:spPr>
          <a:xfrm>
            <a:off x="4859280" y="344520"/>
            <a:ext cx="403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25 Rectángulo"/>
          <p:cNvSpPr/>
          <p:nvPr/>
        </p:nvSpPr>
        <p:spPr>
          <a:xfrm rot="16200000">
            <a:off x="5602320" y="3315600"/>
            <a:ext cx="680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Prof.: Eugenia Solano Solano – LEBJFF  / Campamento III Ciclo Informática Educativ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549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¿Cómo ingresar al editor de VB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042920" y="141300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Para ingresar al editor de VBA, es necesario tener una aplicaión del Office (Word, Excel, PowerPoint) abierta, y luego presionar la combinación 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ALT-F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2268360" y="3305160"/>
            <a:ext cx="4391280" cy="3292560"/>
          </a:xfrm>
          <a:prstGeom prst="rect">
            <a:avLst/>
          </a:prstGeom>
          <a:ln w="0">
            <a:noFill/>
          </a:ln>
        </p:spPr>
      </p:pic>
      <p:sp>
        <p:nvSpPr>
          <p:cNvPr id="53" name="6 Rectángulo"/>
          <p:cNvSpPr/>
          <p:nvPr/>
        </p:nvSpPr>
        <p:spPr>
          <a:xfrm rot="16200000">
            <a:off x="5602320" y="3315600"/>
            <a:ext cx="680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Prof.: Eugenia Solano Solano – LEBJFF  / Campamento III Ciclo Informática Educativ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84360" y="54936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¿Cómo alternar entre al editor de VBA y la aplic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42920" y="184464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Tiene varias opciones, entre el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24000" y="2549520"/>
            <a:ext cx="39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Utilizar el botón que se encuentra en la barra de herramientas, con el icono de la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5364000" y="2492280"/>
            <a:ext cx="3171960" cy="3313080"/>
          </a:xfrm>
          <a:prstGeom prst="rect">
            <a:avLst/>
          </a:prstGeom>
          <a:ln w="0">
            <a:noFill/>
          </a:ln>
        </p:spPr>
      </p:pic>
      <p:sp>
        <p:nvSpPr>
          <p:cNvPr id="58" name="Oval 8"/>
          <p:cNvSpPr/>
          <p:nvPr/>
        </p:nvSpPr>
        <p:spPr>
          <a:xfrm>
            <a:off x="5580000" y="3500280"/>
            <a:ext cx="719280" cy="792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4500720" y="3429000"/>
            <a:ext cx="107928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24000" y="44942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24000" y="522936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Presionar la combinación de teclas ALT-F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1 Rectángulo"/>
          <p:cNvSpPr/>
          <p:nvPr/>
        </p:nvSpPr>
        <p:spPr>
          <a:xfrm rot="16200000">
            <a:off x="5602320" y="3315600"/>
            <a:ext cx="680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Prof.: Eugenia Solano Solano – LEBJFF  / Campamento III Ciclo Informática Educativ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4360" y="549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¿Qué es un formula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95280" y="451476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Es un objeto que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“permite crear ventanas en el proyecto”.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Se puede decir también, que es un contenedor o recipiente donde se colocan varios objetos como : etiquetas, cajas de texto, imágenes, botones, listas desplegabl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4897440" cy="3116160"/>
          </a:xfrm>
          <a:prstGeom prst="rect">
            <a:avLst/>
          </a:prstGeom>
          <a:ln w="0">
            <a:noFill/>
          </a:ln>
        </p:spPr>
      </p:pic>
      <p:sp>
        <p:nvSpPr>
          <p:cNvPr id="66" name="6 Rectángulo"/>
          <p:cNvSpPr/>
          <p:nvPr/>
        </p:nvSpPr>
        <p:spPr>
          <a:xfrm rot="16200000">
            <a:off x="5602320" y="3315600"/>
            <a:ext cx="680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Prof.: Eugenia Solano Solano – LEBJFF  / Campamento III Ciclo Informática Educativ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4360" y="549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¿Qué son los objetos o contro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24000" y="1557360"/>
            <a:ext cx="424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Son todos los elementos que podemos incluir en el formulario, los cuales tienen propiedades o características propias de cada u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4572000" y="3214800"/>
            <a:ext cx="3544920" cy="3257280"/>
          </a:xfrm>
          <a:prstGeom prst="rect">
            <a:avLst/>
          </a:prstGeom>
          <a:ln w="0">
            <a:noFill/>
          </a:ln>
        </p:spPr>
      </p:pic>
      <p:sp>
        <p:nvSpPr>
          <p:cNvPr id="70" name="6 Rectángulo"/>
          <p:cNvSpPr/>
          <p:nvPr/>
        </p:nvSpPr>
        <p:spPr>
          <a:xfrm rot="16200000">
            <a:off x="5602320" y="3315600"/>
            <a:ext cx="680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Prof.: Eugenia Solano Solano – LEBJFF  / Campamento III Ciclo Informática Educativ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1771560" cy="1886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Arial"/>
              </a:rPr>
              <a:t>Seleccionar obje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276720" y="2421000"/>
            <a:ext cx="532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Sirve para seleccionar los elementos, controles u objetos que se encuentran en el formul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6 Rectángulo"/>
          <p:cNvSpPr/>
          <p:nvPr/>
        </p:nvSpPr>
        <p:spPr>
          <a:xfrm rot="16200000">
            <a:off x="5602320" y="3315600"/>
            <a:ext cx="680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Prof.: Eugenia Solano Solano – LEBJFF  / Campamento III Ciclo Informática Educativ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Arial"/>
              </a:rPr>
              <a:t>Etiqu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755640" y="458136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Se utiliza para insertar rótulos o textos en el formul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3564000" y="1668600"/>
            <a:ext cx="1992240" cy="2192040"/>
          </a:xfrm>
          <a:prstGeom prst="rect">
            <a:avLst/>
          </a:prstGeom>
          <a:ln w="0">
            <a:noFill/>
          </a:ln>
        </p:spPr>
      </p:pic>
      <p:sp>
        <p:nvSpPr>
          <p:cNvPr id="78" name="6 Rectángulo"/>
          <p:cNvSpPr/>
          <p:nvPr/>
        </p:nvSpPr>
        <p:spPr>
          <a:xfrm rot="16200000">
            <a:off x="5602320" y="3315600"/>
            <a:ext cx="680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Prof.: Eugenia Solano Solano – LEBJFF  / Campamento III Ciclo Informática Educativ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Arial"/>
              </a:rPr>
              <a:t>Cuadro de te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755640" y="1557360"/>
            <a:ext cx="770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Se utiliza para insertar cuadros o cajas de texto; se diferencian de las etiquetas porque su contenido se puede modificar mientras la aplicación se esté ejecut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3419640" y="4518000"/>
            <a:ext cx="2197080" cy="2006640"/>
          </a:xfrm>
          <a:prstGeom prst="rect">
            <a:avLst/>
          </a:prstGeom>
          <a:ln w="0">
            <a:noFill/>
          </a:ln>
        </p:spPr>
      </p:pic>
      <p:sp>
        <p:nvSpPr>
          <p:cNvPr id="82" name="6 Rectángulo"/>
          <p:cNvSpPr/>
          <p:nvPr/>
        </p:nvSpPr>
        <p:spPr>
          <a:xfrm rot="16200000">
            <a:off x="5602320" y="3315600"/>
            <a:ext cx="680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Prof.: Eugenia Solano Solano – LEBJFF  / Campamento III Ciclo Informática Educativ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Arial"/>
              </a:rPr>
              <a:t>Imag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924360" y="2811600"/>
            <a:ext cx="453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Permite insertar imágenes en el formul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2073600" cy="2433600"/>
          </a:xfrm>
          <a:prstGeom prst="rect">
            <a:avLst/>
          </a:prstGeom>
          <a:ln w="0">
            <a:noFill/>
          </a:ln>
        </p:spPr>
      </p:pic>
      <p:sp>
        <p:nvSpPr>
          <p:cNvPr id="86" name="6 Rectángulo"/>
          <p:cNvSpPr/>
          <p:nvPr/>
        </p:nvSpPr>
        <p:spPr>
          <a:xfrm rot="16200000">
            <a:off x="5602320" y="3315600"/>
            <a:ext cx="680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Prof.: Eugenia Solano Solano – LEBJFF  / Campamento III Ciclo Informática Educativ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3:29:04Z</dcterms:created>
  <dc:creator>}</dc:creator>
  <dc:description/>
  <dc:language>en-US</dc:language>
  <cp:lastModifiedBy>andres</cp:lastModifiedBy>
  <dcterms:modified xsi:type="dcterms:W3CDTF">2008-05-27T16:02:46Z</dcterms:modified>
  <cp:revision>23</cp:revision>
  <dc:subject/>
  <dc:title>Diapositiva 1</dc:title>
</cp:coreProperties>
</file>